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144-34EB-4DED-8CCF-F8E24FDA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F82-59AE-4CB3-BA3F-46D351C4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6CA-7381-467A-B33E-3DDC9E71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711-24AA-4BFB-8F95-16D176CE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082-0388-461C-AA8E-D7646870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C84-539A-41CE-9B10-DD3B89E7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D8E-83DD-42E9-B54A-ABE70DBF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E46-EF81-49E7-9D88-271E4614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5A2-DBE8-4C4E-9C4D-6E92B71F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8C3-79AE-4136-BCEC-1C735365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E40-88F2-45FC-937F-FB716B5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599-63F5-4D3A-B8AB-DAC24814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F4FD-6616-4FCF-B588-B865FB855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: Lindsey Kl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152280"/>
            <a:ext cx="7848360" cy="32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air Spr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ir Spray Works Bet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dict that White Rain hair spray will work better than R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hink it will work better because it works really good when I use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ir sp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ling i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ir b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I’m going to brush the girls hair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I’m going to curl there h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rd I’m going to spray there hair with hair sp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 I’m going to wait until last hour class to see if there hair has sta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th I will determine what hair spray works b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hypothesis was wrong. The White Rain hair spray did not hold very well at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ve hair spray works really good it held the curls all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1:21:45Z</dcterms:created>
  <dc:creator> Kristi</dc:creator>
  <dc:description/>
  <dc:language>en-US</dc:language>
  <cp:lastModifiedBy>STERLING  USD376</cp:lastModifiedBy>
  <dcterms:modified xsi:type="dcterms:W3CDTF">2010-05-06T19:53:08Z</dcterms:modified>
  <cp:revision>7</cp:revision>
  <dc:subject/>
  <dc:title>Hair Spray</dc:title>
</cp:coreProperties>
</file>